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1EA54-AA1F-4F13-85C0-E099BD80A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314CA-14A1-4275-A738-FA8C46AD9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26B63-F88F-4D1F-A716-3EB04F28C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FDE98-948D-4054-BCF6-BAE8037BB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A5CA8-F76D-48C2-9934-C5B6393B5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80CD8-D00D-4DDD-8944-BAD191C52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9FB38-B87F-446C-B7B6-B8CC10A2E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CAF10-5178-4BCF-A3A4-3DBF9D80B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46FAB-5FFB-45BD-BC63-7C79AC44A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84835-E39A-4824-AA8D-8BE2A40F8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1D225-27CE-479E-BCE1-407F355D0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56502-85AA-496F-9B08-ABF995187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0BFEA-64DA-4B6E-B9F0-1783C556D38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ниципальное автономное общеобразовательное учреждение средняя общеобразовательная школа № 88 города Тюмен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76360" y="234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тильник из подручных материал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3"/>
          <p:cNvSpPr/>
          <p:nvPr/>
        </p:nvSpPr>
        <p:spPr>
          <a:xfrm>
            <a:off x="3635280" y="4599000"/>
            <a:ext cx="504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О, класс автора проек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О, руководителя проек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1"/>
          <p:cNvSpPr/>
          <p:nvPr/>
        </p:nvSpPr>
        <p:spPr>
          <a:xfrm>
            <a:off x="826920" y="214200"/>
            <a:ext cx="784872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уальность проекта:………………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……………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Разработать конструкцию издели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Описать технологию изготовления в технологической карт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Исследовать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Выявить возможные недостатки в конструкции, сборке..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Box 1"/>
          <p:cNvSpPr/>
          <p:nvPr/>
        </p:nvSpPr>
        <p:spPr>
          <a:xfrm>
            <a:off x="1143000" y="0"/>
            <a:ext cx="684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д работ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289080" y="642960"/>
          <a:ext cx="8640720" cy="5821200"/>
        </p:xfrm>
        <a:graphic>
          <a:graphicData uri="http://schemas.openxmlformats.org/drawingml/2006/table">
            <a:tbl>
              <a:tblPr/>
              <a:tblGrid>
                <a:gridCol w="3168360"/>
                <a:gridCol w="2376720"/>
                <a:gridCol w="3095640"/>
              </a:tblGrid>
              <a:tr h="914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аименование опера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Графическое изображ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Используемое оборудование и инструмен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4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ыбрать необходимые материалы для изготовления …… в соответствии с эскизо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90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33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29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29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Box 1"/>
          <p:cNvSpPr/>
          <p:nvPr/>
        </p:nvSpPr>
        <p:spPr>
          <a:xfrm>
            <a:off x="971640" y="260280"/>
            <a:ext cx="68403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ультаты работ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ТО (изделия, результата работы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оценк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2-06T03:12:15Z</dcterms:created>
  <dc:creator>terry</dc:creator>
  <dc:description/>
  <dc:language>en-US</dc:language>
  <cp:lastModifiedBy>admin</cp:lastModifiedBy>
  <dcterms:modified xsi:type="dcterms:W3CDTF">2024-01-31T07:42:43Z</dcterms:modified>
  <cp:revision>5</cp:revision>
  <dc:subject/>
  <dc:title>Муниципальное автономное общеобразовательное учреждение средняя общеобразовательная школа № 88 города Тюмени</dc:title>
</cp:coreProperties>
</file>